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A26-6B79-44C8-92CA-B469F427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DDD-30D4-4F9A-91F5-824B439F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6A9-06DE-4976-8BCC-B0AE0FF8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0F2-F2AD-4C31-8339-816A4208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FD21-D78F-4B2A-83DC-CB784CD8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C751-3817-422F-BF64-66970EE2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06C9-7E0B-4C08-B0DB-0F18E56C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328E-5406-4BEC-A5D5-18CFFEA2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32A2-DD61-4A37-B770-46A7718E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B1BE-EAC7-420E-AE3D-0C5F3497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4136-5C4F-4959-A6E2-A4124C5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704-83C3-4DDF-B9B6-51157F23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5DE0-D9F8-41E2-B63E-AD03612A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04D5-0495-426F-942D-CEEE349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41D0-C17D-464A-8DE6-962DA82F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0721-B7E6-4C4D-B88B-335D28F5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271C-EE66-4C7A-B640-E13B0E27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637-4282-4356-A17E-8EC776A4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E1B-2D18-4E41-83DD-A78FD98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41A-8D05-4C71-9D96-7B9EDD9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F7D-9EF9-4682-970B-A4200D32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BEE-A3F9-46AA-95F1-E4F92845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96F-21C2-42C0-AF34-D4A7AE4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D82-F84A-435B-BBBD-4523AAEC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57A6-374C-452D-96C8-A8CC9489CE6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4FD6-ACA6-43FD-B50F-11D627DA14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G 44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Strategies and Classroom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Verk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CF College of Education and Human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l 20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delivery mode, a way by which you deliver the content of th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lso known as didactic, explicit, expository, or traditional 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is basically                            passed on from                                those who know                               to those who don’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678640" y="4191120"/>
            <a:ext cx="3084480" cy="20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the secondary level, direct                                      instruction tends to be based                          on textbook rea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tends to be lecture in form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lanning and questioning                        are teacher-centered (i.e., not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student need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6576840" y="2209680"/>
            <a:ext cx="20336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be used for teaching facts, rules, and action sequ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eaching                                       units of the content so                                                  they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embe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he low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the cognitive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 tend to be convergent (having only one answer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Two cognitive domains.png"/>
          <p:cNvPicPr/>
          <p:nvPr/>
        </p:nvPicPr>
        <p:blipFill>
          <a:blip r:embed="rId1"/>
          <a:srcRect l="0" t="0" r="49610" b="0"/>
          <a:stretch/>
        </p:blipFill>
        <p:spPr>
          <a:xfrm>
            <a:off x="6400800" y="2819520"/>
            <a:ext cx="1996920" cy="1685880"/>
          </a:xfrm>
          <a:prstGeom prst="rect">
            <a:avLst/>
          </a:prstGeom>
          <a:ln w="0">
            <a:noFill/>
          </a:ln>
        </p:spPr>
      </p:pic>
      <p:sp>
        <p:nvSpPr>
          <p:cNvPr id="120" name="Striped Right Arrow 4"/>
          <p:cNvSpPr/>
          <p:nvPr/>
        </p:nvSpPr>
        <p:spPr>
          <a:xfrm rot="19245000">
            <a:off x="6086520" y="4224240"/>
            <a:ext cx="762120" cy="533520"/>
          </a:xfrm>
          <a:custGeom>
            <a:avLst/>
            <a:gdLst/>
            <a:ahLst/>
            <a:rect l="l" t="t" r="r" b="b"/>
            <a:pathLst>
              <a:path w="762000" h="533400">
                <a:moveTo>
                  <a:pt x="0" y="133350"/>
                </a:moveTo>
                <a:lnTo>
                  <a:pt x="16669" y="133350"/>
                </a:lnTo>
                <a:lnTo>
                  <a:pt x="16669" y="400050"/>
                </a:lnTo>
                <a:lnTo>
                  <a:pt x="0" y="400050"/>
                </a:lnTo>
                <a:lnTo>
                  <a:pt x="0" y="133350"/>
                </a:lnTo>
                <a:close/>
                <a:moveTo>
                  <a:pt x="33338" y="133350"/>
                </a:moveTo>
                <a:lnTo>
                  <a:pt x="66675" y="133350"/>
                </a:lnTo>
                <a:lnTo>
                  <a:pt x="66675" y="400050"/>
                </a:lnTo>
                <a:lnTo>
                  <a:pt x="33338" y="400050"/>
                </a:lnTo>
                <a:lnTo>
                  <a:pt x="33338" y="133350"/>
                </a:lnTo>
                <a:close/>
                <a:moveTo>
                  <a:pt x="83344" y="133350"/>
                </a:moveTo>
                <a:lnTo>
                  <a:pt x="495300" y="133350"/>
                </a:lnTo>
                <a:lnTo>
                  <a:pt x="495300" y="0"/>
                </a:lnTo>
                <a:lnTo>
                  <a:pt x="762000" y="266700"/>
                </a:lnTo>
                <a:lnTo>
                  <a:pt x="495300" y="533400"/>
                </a:lnTo>
                <a:lnTo>
                  <a:pt x="495300" y="400050"/>
                </a:lnTo>
                <a:lnTo>
                  <a:pt x="83344" y="400050"/>
                </a:lnTo>
                <a:lnTo>
                  <a:pt x="83344" y="13335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bstraction or concept to be taught is stated by the teac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ples are given, and then the examples are provided to help illustrate the abs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200400" y="3944880"/>
            <a:ext cx="324000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quence of a Direct Teac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Content Placeholder 3" descr=""/>
          <p:cNvPicPr/>
          <p:nvPr/>
        </p:nvPicPr>
        <p:blipFill>
          <a:blip r:embed="rId1"/>
          <a:stretch/>
        </p:blipFill>
        <p:spPr>
          <a:xfrm>
            <a:off x="1030320" y="1981080"/>
            <a:ext cx="76136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dvantages of Direct Teach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the questioning tends to be convergent, this approach tends to be more time-efficient than indirect, discovery, or inquiry lessons that have a lot of groupwork and student inter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it is teacher-directed, this type of lesson gives the teacher more contro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skill in questioning is required; hence, there is less need for skilled classroom interactio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Karen Verkler</dc:creator>
  <dc:description/>
  <dc:language>en-US</dc:language>
  <cp:lastModifiedBy>Karen Verkler</cp:lastModifiedBy>
  <dcterms:modified xsi:type="dcterms:W3CDTF">2014-07-30T14:03:29Z</dcterms:modified>
  <cp:revision>348</cp:revision>
  <dc:subject/>
  <dc:title>Slide 1</dc:title>
</cp:coreProperties>
</file>